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Click to move the slide</a:t>
            </a: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009EF-803A-4B10-891B-80C08A75CF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85808-8719-49D5-A729-2FAAD0E13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oject has two par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emonstrate that NASA HDF-EOS 2 data holdings can be transformed into Common Data Model compliant netCDF-4/HDF 5 data files without loss of information – not discussed further here (will be discussed at the upcoming AMS meet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Given by 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hive Information Packages is terminology from the Open Archives Information Systems Reference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P is a collection of all of the information needed to ensure that the object you wish to preserve is understandable to its user 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505F-16AF-49CD-8601-11AF9724B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more than just descriptive metadata is need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equally important to know what has happened to the data since it’s creation, to know it’s prove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3490A-10CB-4808-B920-3E0FDA3AFF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lan has changed some from the original propos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AA moving to ISO from FGD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ff in green is complete and not discussed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8A2E8-A923-4E82-BD6D-8B15F5431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C86DF-A1A8-4CC4-B651-9D91E7D76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ry Schema  Extension Sche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 Digital Geospatial Archive - LOC NDIIP (National Digital Information Infrastructure and Preservation Program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mmendation by Nancy Hoebelheinrich of Stanf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C1B7C-27B9-48CB-B2F3-EE411A049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3A159-AF97-4C5B-8B38-0DD505E68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ry Schema  Extension Sche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2D042-C6BF-4BD1-B7A5-809645E700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BEF1E-2824-489F-ACDE-59DA799554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data sets are different - some data sets have 1 file per granule; others have many; some data sets have a browse for each granule; in others the mapping is 1 to many; many to 1, or many to 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D9152-F1BA-40EA-BEA4-A003C8E0C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bility of ISO 19115 at the granule level…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S and PREMIS explicitly deal with multiple levels of preservable objects - ISO/FGDC not so clear what to 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8F302-7EFD-4EA0-A53D-452C204DD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A985E-C299-4478-B69F-6BA89DE765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ld Data Center-A for Glaciology was formed in 1957 to house the glaciological data from the International Geophysical Year in 1957-58, under the auspices of the American Geographical Society.  Years later it moved to the USGS.  Now it is currently under NOAA but the WDC system is being disbanded and reformul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over, since joining NSIDC some 8 years ago, I’ve seen at least 4 media migrations take plac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o demonstrate how important context 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90BBC-DC92-43BA-9040-C4D6D85BAA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 is ASCII, clearly a table with two columns of integer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d grid (polarstereographic grid) over Green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row defining a cell on the grid where the ice was melting that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you might ask how you know what contextual information is neede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case of climate change data, the data I work wit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71698-3239-4D4B-A4F9-C119F42F5D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eping track of events in the digital library world for a few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d that they’ve come up with standards to deal with a wide variety of information 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AA and USGS were to be the ultimate home of much of NASA’s EOS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G with funding ultimately from National Archives and Records Administration had written a white paper defining an HDF-AIP using a digital library stand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andard called M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D4982-B129-43DE-8119-6DA619FD0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F4A9-47FF-49A8-8190-4DF147691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uple of interesting and useful things about ME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at it is deliberately designed to handle objects at a wide variety of scales (single files, complex web sit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ttempting to define descriptive and administrative metadata needs for all kinds of objects, they designed the standard to incorporate a variety of other standards (e.g., FGDC for geospatial metadata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BB99-7415-4351-B410-D33422A8C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ccessor to FGD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le METS hasn’t yet placed their seal of approval on ISO, one can assume it is co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520BB-87F2-4560-8D65-6CCC4E3DC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96F7D-4300-4E45-B3A3-483A586FCE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E9642-DB58-463C-A7BC-AA76AB6B03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8FC09-0C56-45F7-9559-9A7C410FDD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B4D6D-559B-4A1E-97F5-65254B0C3E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E717A-8169-47FC-BD19-A0903610DE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B0EA8-C683-4889-87EC-9988616E84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6FE14-3D8C-4C42-9166-76FFA790B5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95786-F7FD-44BC-8C9B-B7634D7741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6CA6F-E3E6-4EFA-BF00-92271DF5D8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B2623-9881-46B3-BF6E-8AA211D51C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59EC8-D527-48E9-822B-3EFC0EDCE6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AAB21-5E3F-4FC4-A24E-A5B49E0092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c7d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b1dbff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1db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b1db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23880" y="6400800"/>
            <a:ext cx="6096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ing Archive Information Packages, presented at the ESIP Meeting, Santa Barbara, July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. Duerr, M. Yang, A. Sikander, and C. Le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-360" y="6476760"/>
            <a:ext cx="106668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6F93AD49-51B3-4AA9-88EC-73BFABE7C5E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>
            <a:off x="304920" y="685800"/>
            <a:ext cx="8458200" cy="0"/>
          </a:xfrm>
          <a:prstGeom prst="line">
            <a:avLst/>
          </a:prstGeom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2" descr=""/>
          <p:cNvPicPr/>
          <p:nvPr/>
        </p:nvPicPr>
        <p:blipFill>
          <a:blip r:embed="rId2"/>
          <a:stretch/>
        </p:blipFill>
        <p:spPr>
          <a:xfrm>
            <a:off x="8477280" y="6302520"/>
            <a:ext cx="590400" cy="502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0"/>
            <a:ext cx="91440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0" y="2666880"/>
            <a:ext cx="9144000" cy="2286000"/>
          </a:xfrm>
          <a:prstGeom prst="rect">
            <a:avLst/>
          </a:prstGeom>
          <a:solidFill>
            <a:srgbClr val="c7d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5029200" y="533520"/>
            <a:ext cx="3664080" cy="711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2"/>
          <a:stretch/>
        </p:blipFill>
        <p:spPr>
          <a:xfrm>
            <a:off x="76320" y="2773440"/>
            <a:ext cx="2835000" cy="21034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23720" y="3200400"/>
            <a:ext cx="5867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Creating Archive Information Packages for Data Sets: </a:t>
            </a:r>
            <a:br>
              <a:rPr sz="3200"/>
            </a:b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ly Experiments with Digital Library Standards</a:t>
            </a:r>
            <a:endParaRPr b="1" i="1" lang="en-US" sz="28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2539440" y="5089680"/>
            <a:ext cx="4021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th Duerr, NSI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Qun Yang, TH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zhar Sikander, NSI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oonghwan Lee, TH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Metadata Standards - PREMIS</a:t>
            </a: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a core preservation metadata set with broad applicability across the digital preservation commun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ed by an OCLC and RLG sponsored international working gro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ves from libraries, museums, archives, government, and the private sect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tained by the Library of Cong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d on the OAIS reference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25"/>
          <p:cNvSpPr/>
          <p:nvPr/>
        </p:nvSpPr>
        <p:spPr>
          <a:xfrm>
            <a:off x="228600" y="76320"/>
            <a:ext cx="8534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Current Program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Group 41"/>
          <p:cNvGrpSpPr/>
          <p:nvPr/>
        </p:nvGrpSpPr>
        <p:grpSpPr>
          <a:xfrm>
            <a:off x="1447920" y="1186200"/>
            <a:ext cx="6350040" cy="4300200"/>
            <a:chOff x="1447920" y="1186200"/>
            <a:chExt cx="6350040" cy="4300200"/>
          </a:xfrm>
        </p:grpSpPr>
        <p:sp>
          <p:nvSpPr>
            <p:cNvPr id="88" name="AutoShape 11"/>
            <p:cNvSpPr/>
            <p:nvPr/>
          </p:nvSpPr>
          <p:spPr>
            <a:xfrm>
              <a:off x="3505320" y="4800600"/>
              <a:ext cx="1143000" cy="231840"/>
            </a:xfrm>
            <a:prstGeom prst="leftArrow">
              <a:avLst>
                <a:gd name="adj1" fmla="val 50000"/>
                <a:gd name="adj2" fmla="val 13014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Rectangle 15"/>
            <p:cNvSpPr/>
            <p:nvPr/>
          </p:nvSpPr>
          <p:spPr>
            <a:xfrm>
              <a:off x="1447920" y="3552840"/>
              <a:ext cx="1143000" cy="603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NetCDF4 / HDF5 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Rectangle 16"/>
            <p:cNvSpPr/>
            <p:nvPr/>
          </p:nvSpPr>
          <p:spPr>
            <a:xfrm>
              <a:off x="2590920" y="3552840"/>
              <a:ext cx="1104840" cy="603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AutoShape 19"/>
            <p:cNvSpPr/>
            <p:nvPr/>
          </p:nvSpPr>
          <p:spPr>
            <a:xfrm>
              <a:off x="6477120" y="4386240"/>
              <a:ext cx="1320840" cy="110016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NSIDC/ EC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HDF4-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AutoShape 21"/>
            <p:cNvSpPr/>
            <p:nvPr/>
          </p:nvSpPr>
          <p:spPr>
            <a:xfrm>
              <a:off x="6134040" y="1600200"/>
              <a:ext cx="1587600" cy="268200"/>
            </a:xfrm>
            <a:prstGeom prst="roundRect">
              <a:avLst>
                <a:gd name="adj" fmla="val 5324"/>
              </a:avLst>
            </a:prstGeom>
            <a:solidFill>
              <a:srgbClr val="d9d9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ISO-191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AutoShape 24"/>
            <p:cNvSpPr/>
            <p:nvPr/>
          </p:nvSpPr>
          <p:spPr>
            <a:xfrm>
              <a:off x="4572000" y="3429000"/>
              <a:ext cx="990720" cy="838080"/>
            </a:xfrm>
            <a:prstGeom prst="hexagon">
              <a:avLst>
                <a:gd name="adj" fmla="val 28891"/>
                <a:gd name="vf" fmla="val 11547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ctr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AutoShape 25"/>
            <p:cNvSpPr/>
            <p:nvPr/>
          </p:nvSpPr>
          <p:spPr>
            <a:xfrm>
              <a:off x="4648320" y="4572000"/>
              <a:ext cx="914400" cy="685800"/>
            </a:xfrm>
            <a:prstGeom prst="hexagon">
              <a:avLst>
                <a:gd name="adj" fmla="val 30074"/>
                <a:gd name="vf" fmla="val 115470"/>
              </a:avLst>
            </a:prstGeom>
            <a:solidFill>
              <a:srgbClr val="bbe0e3"/>
            </a:soli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H4toH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AutoShape 27"/>
            <p:cNvSpPr/>
            <p:nvPr/>
          </p:nvSpPr>
          <p:spPr>
            <a:xfrm>
              <a:off x="6324480" y="2286000"/>
              <a:ext cx="1295640" cy="762120"/>
            </a:xfrm>
            <a:prstGeom prst="hexagon">
              <a:avLst>
                <a:gd name="adj" fmla="val 32293"/>
                <a:gd name="vf" fmla="val 11547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182880" bIns="31680" anchor="ctr" anchorCtr="1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CS to METS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Data Set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AutoShape 28"/>
            <p:cNvSpPr/>
            <p:nvPr/>
          </p:nvSpPr>
          <p:spPr>
            <a:xfrm rot="5350200">
              <a:off x="6794280" y="3171960"/>
              <a:ext cx="399960" cy="152280"/>
            </a:xfrm>
            <a:prstGeom prst="leftArrow">
              <a:avLst>
                <a:gd name="adj1" fmla="val 50000"/>
                <a:gd name="adj2" fmla="val 62184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AutoShape 28"/>
            <p:cNvSpPr/>
            <p:nvPr/>
          </p:nvSpPr>
          <p:spPr>
            <a:xfrm rot="5350200">
              <a:off x="6760080" y="1999440"/>
              <a:ext cx="412920" cy="156960"/>
            </a:xfrm>
            <a:prstGeom prst="leftArrow">
              <a:avLst>
                <a:gd name="adj1" fmla="val 50000"/>
                <a:gd name="adj2" fmla="val 62285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Flowchart: Process 26"/>
            <p:cNvSpPr/>
            <p:nvPr/>
          </p:nvSpPr>
          <p:spPr>
            <a:xfrm>
              <a:off x="1905120" y="1752480"/>
              <a:ext cx="1371600" cy="457200"/>
            </a:xfrm>
            <a:prstGeom prst="flowChartProcess">
              <a:avLst/>
            </a:prstGeom>
            <a:solidFill>
              <a:srgbClr val="7575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DM/NetCDF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AutoShape 13"/>
            <p:cNvSpPr/>
            <p:nvPr/>
          </p:nvSpPr>
          <p:spPr>
            <a:xfrm>
              <a:off x="2514600" y="2209680"/>
              <a:ext cx="152280" cy="1067040"/>
            </a:xfrm>
            <a:prstGeom prst="upArrow">
              <a:avLst>
                <a:gd name="adj1" fmla="val 50000"/>
                <a:gd name="adj2" fmla="val 10779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AutoShape 13"/>
            <p:cNvSpPr/>
            <p:nvPr/>
          </p:nvSpPr>
          <p:spPr>
            <a:xfrm>
              <a:off x="1917720" y="4191120"/>
              <a:ext cx="144360" cy="609480"/>
            </a:xfrm>
            <a:prstGeom prst="upArrow">
              <a:avLst>
                <a:gd name="adj1" fmla="val 50000"/>
                <a:gd name="adj2" fmla="val 99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TextBox 74"/>
            <p:cNvSpPr/>
            <p:nvPr/>
          </p:nvSpPr>
          <p:spPr>
            <a:xfrm>
              <a:off x="4722120" y="3505320"/>
              <a:ext cx="823680" cy="73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CS 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Granule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AutoShape 14"/>
            <p:cNvSpPr/>
            <p:nvPr/>
          </p:nvSpPr>
          <p:spPr>
            <a:xfrm>
              <a:off x="5562720" y="3778200"/>
              <a:ext cx="838080" cy="147600"/>
            </a:xfrm>
            <a:prstGeom prst="leftArrow">
              <a:avLst>
                <a:gd name="adj1" fmla="val 50000"/>
                <a:gd name="adj2" fmla="val 74656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AutoShape 11"/>
            <p:cNvSpPr/>
            <p:nvPr/>
          </p:nvSpPr>
          <p:spPr>
            <a:xfrm>
              <a:off x="5562720" y="4818240"/>
              <a:ext cx="914400" cy="214200"/>
            </a:xfrm>
            <a:prstGeom prst="leftArrow">
              <a:avLst>
                <a:gd name="adj1" fmla="val 50000"/>
                <a:gd name="adj2" fmla="val 11269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AutoShape 14"/>
            <p:cNvSpPr/>
            <p:nvPr/>
          </p:nvSpPr>
          <p:spPr>
            <a:xfrm>
              <a:off x="3657600" y="3801960"/>
              <a:ext cx="914400" cy="160560"/>
            </a:xfrm>
            <a:prstGeom prst="leftArrow">
              <a:avLst>
                <a:gd name="adj1" fmla="val 50000"/>
                <a:gd name="adj2" fmla="val 74879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30"/>
            <p:cNvSpPr/>
            <p:nvPr/>
          </p:nvSpPr>
          <p:spPr>
            <a:xfrm>
              <a:off x="6337440" y="3449520"/>
              <a:ext cx="1434960" cy="7416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ctr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SIDC/ECS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AutoShape 28"/>
            <p:cNvSpPr/>
            <p:nvPr/>
          </p:nvSpPr>
          <p:spPr>
            <a:xfrm rot="5350200">
              <a:off x="6755400" y="1315080"/>
              <a:ext cx="412920" cy="156960"/>
            </a:xfrm>
            <a:prstGeom prst="leftArrow">
              <a:avLst>
                <a:gd name="adj1" fmla="val 50000"/>
                <a:gd name="adj2" fmla="val 62285"/>
              </a:avLst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1447920" y="3246480"/>
              <a:ext cx="2247840" cy="30636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HDF5-A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10"/>
            <p:cNvSpPr/>
            <p:nvPr/>
          </p:nvSpPr>
          <p:spPr>
            <a:xfrm>
              <a:off x="1536840" y="4724280"/>
              <a:ext cx="1968480" cy="47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ctr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etCDF4/HDF5-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Group 40"/>
          <p:cNvGrpSpPr/>
          <p:nvPr/>
        </p:nvGrpSpPr>
        <p:grpSpPr>
          <a:xfrm>
            <a:off x="1447920" y="3552840"/>
            <a:ext cx="6350040" cy="1933560"/>
            <a:chOff x="1447920" y="3552840"/>
            <a:chExt cx="6350040" cy="1933560"/>
          </a:xfrm>
        </p:grpSpPr>
        <p:sp>
          <p:nvSpPr>
            <p:cNvPr id="110" name="AutoShape 11"/>
            <p:cNvSpPr/>
            <p:nvPr/>
          </p:nvSpPr>
          <p:spPr>
            <a:xfrm>
              <a:off x="3505320" y="4800600"/>
              <a:ext cx="1143000" cy="231840"/>
            </a:xfrm>
            <a:prstGeom prst="leftArrow">
              <a:avLst>
                <a:gd name="adj1" fmla="val 50000"/>
                <a:gd name="adj2" fmla="val 130146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15"/>
            <p:cNvSpPr/>
            <p:nvPr/>
          </p:nvSpPr>
          <p:spPr>
            <a:xfrm>
              <a:off x="1447920" y="3552840"/>
              <a:ext cx="1143000" cy="6033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NetCDF4 / HDF5 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AutoShape 19"/>
            <p:cNvSpPr/>
            <p:nvPr/>
          </p:nvSpPr>
          <p:spPr>
            <a:xfrm>
              <a:off x="6477120" y="4386240"/>
              <a:ext cx="1320840" cy="1100160"/>
            </a:xfrm>
            <a:prstGeom prst="can">
              <a:avLst>
                <a:gd name="adj" fmla="val 2500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NSIDC/ EC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HDF4-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AutoShape 25"/>
            <p:cNvSpPr/>
            <p:nvPr/>
          </p:nvSpPr>
          <p:spPr>
            <a:xfrm>
              <a:off x="4648320" y="4572000"/>
              <a:ext cx="914400" cy="685800"/>
            </a:xfrm>
            <a:prstGeom prst="hexagon">
              <a:avLst>
                <a:gd name="adj" fmla="val 30074"/>
                <a:gd name="vf" fmla="val 115470"/>
              </a:avLst>
            </a:prstGeom>
            <a:solidFill>
              <a:srgbClr val="99cc00"/>
            </a:soli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H4toH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AutoShape 13"/>
            <p:cNvSpPr/>
            <p:nvPr/>
          </p:nvSpPr>
          <p:spPr>
            <a:xfrm>
              <a:off x="1917720" y="4191120"/>
              <a:ext cx="144360" cy="609480"/>
            </a:xfrm>
            <a:prstGeom prst="upArrow">
              <a:avLst>
                <a:gd name="adj1" fmla="val 50000"/>
                <a:gd name="adj2" fmla="val 99958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AutoShape 11"/>
            <p:cNvSpPr/>
            <p:nvPr/>
          </p:nvSpPr>
          <p:spPr>
            <a:xfrm>
              <a:off x="5562720" y="4818240"/>
              <a:ext cx="914400" cy="214200"/>
            </a:xfrm>
            <a:prstGeom prst="leftArrow">
              <a:avLst>
                <a:gd name="adj1" fmla="val 50000"/>
                <a:gd name="adj2" fmla="val 112691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10"/>
            <p:cNvSpPr/>
            <p:nvPr/>
          </p:nvSpPr>
          <p:spPr>
            <a:xfrm>
              <a:off x="1536840" y="4724640"/>
              <a:ext cx="1968480" cy="4698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ctr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etCDF4/HDF5-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6"/>
          <p:cNvSpPr/>
          <p:nvPr/>
        </p:nvSpPr>
        <p:spPr>
          <a:xfrm>
            <a:off x="1523880" y="762120"/>
            <a:ext cx="5943600" cy="5410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2362320" y="838080"/>
            <a:ext cx="4419360" cy="1143000"/>
          </a:xfrm>
          <a:prstGeom prst="rect">
            <a:avLst/>
          </a:prstGeom>
          <a:solidFill>
            <a:srgbClr val="66ffcc"/>
          </a:solidFill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2362320" y="2133720"/>
            <a:ext cx="4419360" cy="3124080"/>
          </a:xfrm>
          <a:prstGeom prst="rect">
            <a:avLst/>
          </a:prstGeom>
          <a:solidFill>
            <a:srgbClr val="bfbfbf"/>
          </a:solidFill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Flowchart: Magnetic Disk 9"/>
          <p:cNvSpPr/>
          <p:nvPr/>
        </p:nvSpPr>
        <p:spPr>
          <a:xfrm>
            <a:off x="3924360" y="1066680"/>
            <a:ext cx="1295280" cy="609840"/>
          </a:xfrm>
          <a:prstGeom prst="flowChartMagneticDisk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DF5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Flowchart: Magnetic Disk 10"/>
          <p:cNvSpPr/>
          <p:nvPr/>
        </p:nvSpPr>
        <p:spPr>
          <a:xfrm>
            <a:off x="3924360" y="2286000"/>
            <a:ext cx="1295280" cy="609480"/>
          </a:xfrm>
          <a:prstGeom prst="flowChartMagneticDisk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MET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2590920" y="3276720"/>
            <a:ext cx="3886200" cy="190476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ff"/>
                </a:solidFill>
                <a:latin typeface="Arial"/>
              </a:rPr>
              <a:t>Primary Schem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6600ff"/>
                </a:solidFill>
                <a:latin typeface="Arial"/>
              </a:rPr>
              <a:t>Extension Sch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&lt;mets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---&lt;dmdSec&gt;----------------&lt;ISO 19115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---&lt;amdSec&gt;--------------|--&lt;techM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|--&lt;rightsMD&gt;      PREM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|--&lt;sourceM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----&lt;fileGrp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----&lt;structMap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Down Arrow 12"/>
          <p:cNvSpPr/>
          <p:nvPr/>
        </p:nvSpPr>
        <p:spPr>
          <a:xfrm>
            <a:off x="4267080" y="2895480"/>
            <a:ext cx="60984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66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1523880" y="5791320"/>
            <a:ext cx="2210040" cy="304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http://www.hdfgroup.uiuc.edu/papers/papers/AIP/HDF5_AIP_White_Paper.pd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13"/>
          <p:cNvSpPr/>
          <p:nvPr/>
        </p:nvSpPr>
        <p:spPr>
          <a:xfrm>
            <a:off x="3314880" y="53341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DF5 AIP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Box 15"/>
          <p:cNvSpPr/>
          <p:nvPr/>
        </p:nvSpPr>
        <p:spPr>
          <a:xfrm>
            <a:off x="1996200" y="243828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Metadata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6"/>
          <p:cNvSpPr/>
          <p:nvPr/>
        </p:nvSpPr>
        <p:spPr>
          <a:xfrm>
            <a:off x="228600" y="76320"/>
            <a:ext cx="8534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HDF5 File Level Archive Information Pack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17"/>
          <p:cNvSpPr/>
          <p:nvPr/>
        </p:nvSpPr>
        <p:spPr>
          <a:xfrm>
            <a:off x="5715000" y="4114800"/>
            <a:ext cx="228600" cy="533520"/>
          </a:xfrm>
          <a:custGeom>
            <a:avLst/>
            <a:gdLst>
              <a:gd name="textAreaLeft" fmla="*/ 0 w 228600"/>
              <a:gd name="textAreaRight" fmla="*/ 82440 w 22860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1600200" y="723960"/>
            <a:ext cx="5943600" cy="5410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2362320" y="990720"/>
            <a:ext cx="4419360" cy="3124080"/>
          </a:xfrm>
          <a:prstGeom prst="rect">
            <a:avLst/>
          </a:prstGeom>
          <a:solidFill>
            <a:srgbClr val="bfbfbf"/>
          </a:solidFill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lowchart: Magnetic Disk 10"/>
          <p:cNvSpPr/>
          <p:nvPr/>
        </p:nvSpPr>
        <p:spPr>
          <a:xfrm>
            <a:off x="3924360" y="1143000"/>
            <a:ext cx="1295280" cy="609480"/>
          </a:xfrm>
          <a:prstGeom prst="flowChartMagneticDisk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MET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2590920" y="2133720"/>
            <a:ext cx="3886200" cy="190476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ff"/>
                </a:solidFill>
                <a:latin typeface="Arial"/>
              </a:rPr>
              <a:t>Primary Schem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6600ff"/>
                </a:solidFill>
                <a:latin typeface="Arial"/>
              </a:rPr>
              <a:t>Extension Sch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&lt;mets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---&lt;dmdSec&gt;----------------&lt;ISO 19115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---&lt;amdSec&gt;--------------|--&lt;techM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|--&lt;rightsMD&gt;      PREM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|--&lt;sourceM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----&lt;fileGrp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----&lt;structMap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Down Arrow 12"/>
          <p:cNvSpPr/>
          <p:nvPr/>
        </p:nvSpPr>
        <p:spPr>
          <a:xfrm>
            <a:off x="4267080" y="1752480"/>
            <a:ext cx="60984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66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Box 15"/>
          <p:cNvSpPr/>
          <p:nvPr/>
        </p:nvSpPr>
        <p:spPr>
          <a:xfrm>
            <a:off x="1996200" y="129528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Metadata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228600" y="76320"/>
            <a:ext cx="8534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Data Set Level Archive Information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13"/>
          <p:cNvSpPr/>
          <p:nvPr/>
        </p:nvSpPr>
        <p:spPr>
          <a:xfrm>
            <a:off x="5715000" y="2971800"/>
            <a:ext cx="228600" cy="533520"/>
          </a:xfrm>
          <a:custGeom>
            <a:avLst/>
            <a:gdLst>
              <a:gd name="textAreaLeft" fmla="*/ 0 w 228600"/>
              <a:gd name="textAreaRight" fmla="*/ 82440 w 22860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2362320" y="4267080"/>
            <a:ext cx="1600200" cy="914400"/>
          </a:xfrm>
          <a:prstGeom prst="rect">
            <a:avLst/>
          </a:prstGeom>
          <a:solidFill>
            <a:srgbClr val="bfbfbf"/>
          </a:solidFill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DF- A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4572000" y="4267080"/>
            <a:ext cx="1600200" cy="914400"/>
          </a:xfrm>
          <a:prstGeom prst="rect">
            <a:avLst/>
          </a:prstGeom>
          <a:solidFill>
            <a:srgbClr val="bfbfbf"/>
          </a:solidFill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x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2514600" y="4419720"/>
            <a:ext cx="1600200" cy="914400"/>
          </a:xfrm>
          <a:prstGeom prst="rect">
            <a:avLst/>
          </a:prstGeom>
          <a:solidFill>
            <a:srgbClr val="bfbfbf"/>
          </a:solidFill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DF- A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2666880" y="4572000"/>
            <a:ext cx="1600200" cy="914400"/>
          </a:xfrm>
          <a:prstGeom prst="rect">
            <a:avLst/>
          </a:prstGeom>
          <a:solidFill>
            <a:srgbClr val="bfbfbf"/>
          </a:solidFill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DF- A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2819520" y="4724280"/>
            <a:ext cx="1600200" cy="914400"/>
          </a:xfrm>
          <a:prstGeom prst="rect">
            <a:avLst/>
          </a:prstGeom>
          <a:solidFill>
            <a:srgbClr val="bfbfbf"/>
          </a:solidFill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DF- A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4724280" y="4419720"/>
            <a:ext cx="1600200" cy="914400"/>
          </a:xfrm>
          <a:prstGeom prst="rect">
            <a:avLst/>
          </a:prstGeom>
          <a:solidFill>
            <a:srgbClr val="bfbfbf"/>
          </a:solidFill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x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4876920" y="4572000"/>
            <a:ext cx="1600200" cy="914400"/>
          </a:xfrm>
          <a:prstGeom prst="rect">
            <a:avLst/>
          </a:prstGeom>
          <a:solidFill>
            <a:srgbClr val="bfbfbf"/>
          </a:solidFill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x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029200" y="4724280"/>
            <a:ext cx="1600200" cy="914400"/>
          </a:xfrm>
          <a:prstGeom prst="rect">
            <a:avLst/>
          </a:prstGeom>
          <a:solidFill>
            <a:srgbClr val="bfbfbf"/>
          </a:solidFill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x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5181480" y="4876920"/>
            <a:ext cx="1600200" cy="914400"/>
          </a:xfrm>
          <a:prstGeom prst="rect">
            <a:avLst/>
          </a:prstGeom>
          <a:solidFill>
            <a:srgbClr val="bfbfbf"/>
          </a:solidFill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x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2971800" y="4876920"/>
            <a:ext cx="1600200" cy="914400"/>
          </a:xfrm>
          <a:prstGeom prst="rect">
            <a:avLst/>
          </a:prstGeom>
          <a:solidFill>
            <a:srgbClr val="bfbfbf"/>
          </a:solidFill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DF- A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File Level AIP Activity Status</a:t>
            </a: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ment of a map from NSIDC/ECS metadata to METS/PREMIS/ISO 19115 comple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lementation underw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s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xillary file handling - own AIP or no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1dbff"/>
              </a:buClr>
              <a:buSzPct val="8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, browse files, processing history, PGE’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1dbff"/>
              </a:buClr>
              <a:buSzPct val="8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anules vs fi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ema redunda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Data Set AIP Activities Status</a:t>
            </a: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extual information availability assessed for MODIS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tly GCSRLTA information requirements are being m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ch of the information is available via a variety of websites many of which are dynamically up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mat of the material varies wide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material should be considered geographic data sets in their own r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ch of the material applies to multiple data s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Data Set AIP Activity Status</a:t>
            </a: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al sources of metadata ident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S Earth Science Data Type (ESDT) 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SIDC data set catalog and docu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set catalog to ISO 19115 metadata translator implemented - to be released operationally so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Outline</a:t>
            </a: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d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s and 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Motivation</a:t>
            </a: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ologies change regularly, organizations come and go, but data must surv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preserving data takes more than just preserving the bits, all the components of an AIP are crit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Illustration</a:t>
            </a: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pic>
        <p:nvPicPr>
          <p:cNvPr id="62" name="Picture 8" descr=""/>
          <p:cNvPicPr/>
          <p:nvPr/>
        </p:nvPicPr>
        <p:blipFill>
          <a:blip r:embed="rId1"/>
          <a:stretch/>
        </p:blipFill>
        <p:spPr>
          <a:xfrm>
            <a:off x="6934320" y="2048040"/>
            <a:ext cx="1517400" cy="2760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"/>
          <p:cNvPicPr/>
          <p:nvPr/>
        </p:nvPicPr>
        <p:blipFill>
          <a:blip r:embed="rId2"/>
          <a:stretch/>
        </p:blipFill>
        <p:spPr>
          <a:xfrm>
            <a:off x="380880" y="914400"/>
            <a:ext cx="5257800" cy="50878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0"/>
          <p:cNvSpPr/>
          <p:nvPr/>
        </p:nvSpPr>
        <p:spPr>
          <a:xfrm>
            <a:off x="5914800" y="286380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bbe0e3"/>
                </a:solidFill>
                <a:latin typeface="Times New Roman"/>
                <a:ea typeface="ヒラギノ明朝 ProN W3"/>
              </a:rPr>
              <a:t>=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Project Goals</a:t>
            </a: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otype development of Archive Information Packages for HDF data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ntire data se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individual “granule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 usability of digital library standards with geospatial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Metadata Standards - METS</a:t>
            </a: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adata Encoding and Transmission Stand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initiative of the Digital Library Fed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s the means to convey the metadata necessary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agement of digital objects within a reposi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hange of objects between repositories (or between repositories and their use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to facilit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red development of information management tools/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operable exchange of digital materi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METS - A very brief overview</a:t>
            </a: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pic>
        <p:nvPicPr>
          <p:cNvPr id="70" name="Picture 3" descr="t"/>
          <p:cNvPicPr/>
          <p:nvPr/>
        </p:nvPicPr>
        <p:blipFill>
          <a:blip r:embed="rId1"/>
          <a:stretch/>
        </p:blipFill>
        <p:spPr>
          <a:xfrm>
            <a:off x="228600" y="838080"/>
            <a:ext cx="3944880" cy="519120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4"/>
          <p:cNvSpPr/>
          <p:nvPr/>
        </p:nvSpPr>
        <p:spPr>
          <a:xfrm>
            <a:off x="4572000" y="838080"/>
            <a:ext cx="4267080" cy="1447920"/>
          </a:xfrm>
          <a:prstGeom prst="wedgeRoundRectCallout">
            <a:avLst>
              <a:gd name="adj1" fmla="val -67263"/>
              <a:gd name="adj2" fmla="val -887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bes the MET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 it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creator or ed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5"/>
          <p:cNvSpPr/>
          <p:nvPr/>
        </p:nvSpPr>
        <p:spPr>
          <a:xfrm>
            <a:off x="4572000" y="1447920"/>
            <a:ext cx="4267080" cy="1447560"/>
          </a:xfrm>
          <a:prstGeom prst="wedgeRoundRectCallout">
            <a:avLst>
              <a:gd name="adj1" fmla="val -67263"/>
              <a:gd name="adj2" fmla="val -887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bes the obje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some external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MARC, FGDC, Dublin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6"/>
          <p:cNvSpPr/>
          <p:nvPr/>
        </p:nvSpPr>
        <p:spPr>
          <a:xfrm>
            <a:off x="4572000" y="2133720"/>
            <a:ext cx="4267080" cy="1447560"/>
          </a:xfrm>
          <a:prstGeom prst="wedgeRoundRectCallout">
            <a:avLst>
              <a:gd name="adj1" fmla="val -67263"/>
              <a:gd name="adj2" fmla="val -887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Describes object creation, storage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intellectual property rights, sourc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info, provenance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e.g., PREM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7"/>
          <p:cNvSpPr/>
          <p:nvPr/>
        </p:nvSpPr>
        <p:spPr>
          <a:xfrm>
            <a:off x="4572000" y="2819520"/>
            <a:ext cx="4267080" cy="1447560"/>
          </a:xfrm>
          <a:prstGeom prst="wedgeRoundRectCallout">
            <a:avLst>
              <a:gd name="adj1" fmla="val -67263"/>
              <a:gd name="adj2" fmla="val -887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Provides an inventory of all of th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iles that are part of the objec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describ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8"/>
          <p:cNvSpPr/>
          <p:nvPr/>
        </p:nvSpPr>
        <p:spPr>
          <a:xfrm>
            <a:off x="4572000" y="3581280"/>
            <a:ext cx="4267080" cy="1447920"/>
          </a:xfrm>
          <a:prstGeom prst="wedgeRoundRectCallout">
            <a:avLst>
              <a:gd name="adj1" fmla="val -67263"/>
              <a:gd name="adj2" fmla="val -887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 physical or logical map of th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organization of the materia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describ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9"/>
          <p:cNvSpPr/>
          <p:nvPr/>
        </p:nvSpPr>
        <p:spPr>
          <a:xfrm>
            <a:off x="4572000" y="4267080"/>
            <a:ext cx="4267080" cy="1447920"/>
          </a:xfrm>
          <a:prstGeom prst="wedgeRoundRectCallout">
            <a:avLst>
              <a:gd name="adj1" fmla="val -67263"/>
              <a:gd name="adj2" fmla="val -887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llows specification of hyperlink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between parts of the map (mostl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useful when preserving websit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10"/>
          <p:cNvSpPr/>
          <p:nvPr/>
        </p:nvSpPr>
        <p:spPr>
          <a:xfrm>
            <a:off x="4572000" y="4952880"/>
            <a:ext cx="4267080" cy="1447920"/>
          </a:xfrm>
          <a:prstGeom prst="wedgeRoundRectCallout">
            <a:avLst>
              <a:gd name="adj1" fmla="val -67263"/>
              <a:gd name="adj2" fmla="val -887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Used to associate executable cod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with parts of the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ISO 19115 Geographic Information - Metadata</a:t>
            </a: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p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acterize geographic data proper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ilitate organization and management of metadata for geographic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able users to efficiently use such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ilitate discovery, retrieval, and re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able data assess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ISO 19115 entities</a:t>
            </a: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rai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Qu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tenanc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tial Re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erence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ent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rtrayal Catalogue Refe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adata Extension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ication Schema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01:27:19Z</dcterms:created>
  <dc:creator>Ruth Duerr</dc:creator>
  <dc:description/>
  <cp:keywords/>
  <dc:language>en-US</dc:language>
  <cp:lastModifiedBy>Ruth Duerr</cp:lastModifiedBy>
  <cp:lastPrinted>2002-10-01T17:30:54Z</cp:lastPrinted>
  <dcterms:modified xsi:type="dcterms:W3CDTF">2009-07-08T06:22:43Z</dcterms:modified>
  <cp:revision>18</cp:revision>
  <dc:subject/>
  <dc:title>Developing Archive Information Packages for Data Sets: Early Experiments with Digital Library Standards</dc:title>
</cp:coreProperties>
</file>